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5E0-A2E5-4E51-BCA1-4C3E9744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3C2-4A80-4BD4-BD59-C748FA2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6EF-63B7-4EC3-B175-7FC15239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78E-D66A-48DD-8AB0-70945B1A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AB7-4510-4924-8A19-B683C6A9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D33-DA7A-4FE8-B66E-7537CBF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2D89-698B-40CF-95DF-0B35FF64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F75-559C-471E-BF10-2FA1E076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5D6-2D38-481D-BFA5-E9DB5A4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F9C2-C6EA-4C92-BD28-B39E49B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CDB-9989-4576-8C49-E647BA5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F1E-372A-4298-A584-8EB4786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8F0-656F-4BDA-904A-29470BE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661C-1089-43A4-B359-1F4AEBC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C8A-CFCB-4437-AC1E-A8E1092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64C0-A2E8-4B29-8E38-812909B0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DDF2-09B3-4924-8C9A-B4C87921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FB78-6833-4BA6-A104-89D9EA2C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1EB6-6E90-4CD9-8678-1B66AD8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2CB0-BE27-4383-AA1A-78F950A7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DE04-AE9A-4D5B-ADE0-88B3783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E3A2-5C46-450F-B534-C3F71B9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841-37A2-49F9-A6ED-D57CF5C2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978D-3773-46E7-B862-62B68C3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9BCC-F6BB-4E4A-B87B-5451104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DC63-DA4B-4432-ACBD-A7D4D3F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A60D-B906-4B41-B016-ABEFA23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43FA-5281-47CB-9F4F-A911B87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37F8-72B2-40DE-9F31-87DADAF7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5B04-01F3-458D-8522-8029B825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E445-2E88-49A8-8354-EBD2A9D1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DDAE-EAF6-494C-A938-C57ABD2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118E-6F6A-4208-BC57-28DF1B2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FFF-BC13-4264-A626-C6DBD0B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AB17-B271-42EB-B963-731D8C1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140E-740F-47B6-B223-9D2D9F7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B598-613D-4DD2-82C8-E98520D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B564-5DCB-4411-A096-C0AE503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735A7-F0BB-43C2-A83C-F1CD61C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C3F1-A8F5-4153-926C-727D2C6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C7D2-EA24-4A50-BC62-3DAC0C1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619C-FEC2-4BBE-9A6B-B1E93532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A46A-1269-4122-9F0B-BF3E6A18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658A-D5EA-4FC2-88FA-F0C01C43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241-CC39-4069-B0BA-818E2C2F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E4FC-D79E-45DE-86B0-B3517A7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44CD-03B8-49A3-A335-D0B4FA98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F25A-05A6-4358-A125-1C84D93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16A3-7969-47A8-8035-754933E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A8E7-03A6-465F-9E6A-6756356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5CD0-FC47-4E6A-814B-31AF15F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9EDA-7756-45EB-9318-999844B1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5EA0-2C7E-4142-8443-C3BC873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F0FCC-BC5B-4A5F-9AAB-27FDFEC5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B1C7-BF6F-447C-A300-4C2FBBC0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D5E-4AAB-4E05-B2F6-DF6C1F86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54B8-0C7C-4A1A-88B0-49D96CC1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E7F3-9A17-4541-91E5-8636366E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ED58-3562-4CB8-82C9-3678B0A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67C7B-B2FC-442E-93A1-D44C3F9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A418-85CD-4480-9740-EEB2DA05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691B-588C-47FC-BB8E-93E5D90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DAC47-DE2C-4AC2-BC15-F4774C1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C5D1-7A04-483A-B437-419055B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D764-11B9-49F6-AD2A-6FF27AA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9B0B-4813-4396-903C-BCB1A75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F4C-A411-4385-B273-A170A4ED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FF66-7542-4657-98F3-96D2FCF2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16790-16E4-423B-B83C-3E1BA839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B2BF-CC07-466F-9FF8-80F676A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1847-955F-47F8-9049-2B74E852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7B46-433B-40AF-90C1-055C53A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A012-CF12-466A-ABFE-4F7BBE3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331F-68C3-40CE-8BD7-ACD03866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50D4A-92F3-4B76-842C-C1A58F35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3EE33-DA9C-4DA9-92BF-C3DEAAB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5BB17-F50C-41E4-AB9E-35E3BE0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C0A-4C4D-4847-8F45-1B97EEF0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1C86-1C52-4BFF-8D43-08DF305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D346-0FDD-4E17-8008-804EFA6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4693-D8B7-4A61-A8DA-D13E263C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FDD3D-279C-452E-8398-6A0B962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F651-4FC3-4F44-B7F4-FC5CD452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0F9-2EB0-465D-B02B-E4D8B92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8E20-F851-43EB-B7BE-1033DECFB9E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9E7-32FE-448E-A891-BD80FA95E65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D81-53B6-4634-9A5C-91F1ED7E646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6AC4-E621-4580-A8EF-3B07218925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096-6F88-40E9-9070-C3A6FA63EAE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DA4-6039-43C0-AEBF-B3E3EF04025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2888-C9BF-4403-99E4-6E56814E2F0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Butterfl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181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More than meets the e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10" descr="http://britton.disted.camosun.bc.ca/escher/butterfly2.jpg"/>
          <p:cNvPicPr/>
          <p:nvPr/>
        </p:nvPicPr>
        <p:blipFill>
          <a:blip r:embed="rId1"/>
          <a:stretch/>
        </p:blipFill>
        <p:spPr>
          <a:xfrm>
            <a:off x="2057400" y="1066680"/>
            <a:ext cx="55785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maller and Small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Content Placeholder 3" descr="smaller_and_smaller.jpg"/>
          <p:cNvPicPr/>
          <p:nvPr/>
        </p:nvPicPr>
        <p:blipFill>
          <a:blip r:embed="rId1"/>
          <a:stretch/>
        </p:blipFill>
        <p:spPr>
          <a:xfrm>
            <a:off x="2476440" y="1784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Path of Life 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Content Placeholder 3" descr="pathlife.jpg"/>
          <p:cNvPicPr/>
          <p:nvPr/>
        </p:nvPicPr>
        <p:blipFill>
          <a:blip r:embed="rId1"/>
          <a:stretch/>
        </p:blipFill>
        <p:spPr>
          <a:xfrm>
            <a:off x="27432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Whirlp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Content Placeholder 3" descr="al_Escher08_Whirlpools.jpg"/>
          <p:cNvPicPr/>
          <p:nvPr/>
        </p:nvPicPr>
        <p:blipFill>
          <a:blip r:embed="rId1"/>
          <a:stretch/>
        </p:blipFill>
        <p:spPr>
          <a:xfrm>
            <a:off x="3429000" y="160020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Equiangular Spir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805120" y="1738440"/>
            <a:ext cx="3835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Escher_circle_limit_1.jpg"/>
          <p:cNvPicPr/>
          <p:nvPr/>
        </p:nvPicPr>
        <p:blipFill>
          <a:blip r:embed="rId1"/>
          <a:stretch/>
        </p:blipFill>
        <p:spPr>
          <a:xfrm>
            <a:off x="2590920" y="1523880"/>
            <a:ext cx="4406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CircLim3.gif"/>
          <p:cNvPicPr/>
          <p:nvPr/>
        </p:nvPicPr>
        <p:blipFill>
          <a:blip r:embed="rId1"/>
          <a:stretch/>
        </p:blipFill>
        <p:spPr>
          <a:xfrm>
            <a:off x="25146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V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“Heaven and Hell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Escher_circle_limit_4.jpg"/>
          <p:cNvPicPr/>
          <p:nvPr/>
        </p:nvPicPr>
        <p:blipFill>
          <a:blip r:embed="rId1"/>
          <a:stretch/>
        </p:blipFill>
        <p:spPr>
          <a:xfrm>
            <a:off x="2560680" y="1784520"/>
            <a:ext cx="447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quare Lim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4:17:27Z</dcterms:created>
  <dc:creator>Stephanie Cates</dc:creator>
  <dc:description/>
  <dc:language>en-US</dc:language>
  <cp:lastModifiedBy>Stephanie Cates</cp:lastModifiedBy>
  <dcterms:modified xsi:type="dcterms:W3CDTF">2007-07-30T04:19:18Z</dcterms:modified>
  <cp:revision>1</cp:revision>
  <dc:subject/>
  <dc:title>Butterfly</dc:title>
</cp:coreProperties>
</file>